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D64-AE6E-49A7-A3B4-DEAD7068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33E-557C-4D5C-8616-72E4F28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E2C-A70F-4A62-BAF7-F8A5D1BB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CDA-301B-4DA0-BE0F-784CEA97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196-41F7-4301-9130-97C403AC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CDD-05A7-4656-9DFE-2A1740C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03C-E5EC-46C5-A659-4120CC7D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B66-E069-44D5-BB60-CC43281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105-2103-4EC2-9E13-78349C0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953-AA2D-4CEC-8288-EC4C8C5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CD3-6856-4A53-935C-A4EE76B6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721-F455-4D55-91CF-9352AAF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8DDE-89CD-43FA-9A3D-65FC759003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161172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27600" y="23454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9:39Z</dcterms:modified>
  <cp:revision>577</cp:revision>
  <dc:subject/>
  <dc:title>Diapositiva 1</dc:title>
</cp:coreProperties>
</file>